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18D-76A7-40F1-AD64-D2D5EB5E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CC3-E35B-4A0E-B3CC-2F5F1C9D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18-322E-49C1-9FB3-74C363F4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575-3297-4E11-9311-CE0285B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A4F-F380-4717-B3BC-6ADA585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A23-2FBC-4355-8EB2-73C22EFA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A6F-4F41-449C-AF65-9BE7E4B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899-70FF-4DD9-93D7-4C86D5C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18F-E9A4-4B44-B109-DC3FEC8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EF0-FCBA-4F04-89C2-6511F51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426-1BA8-4212-B8A9-E67DB85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AD6-B9E1-4CDD-8AD0-C25198A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8834D-A85A-456F-A08C-1FFB94D359B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jście W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iększe stanowiska lęgowe ptaków i przelo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rzyp bag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79640" y="399888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elkopol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4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ziora polodow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walia dwu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60720" y="4038480"/>
            <a:ext cx="37796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gier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984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8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zecze rzeki Czarna Hańcza i dopływ Niem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iczka okrągło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0200" y="4119480"/>
            <a:ext cx="361944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ol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37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rzeże klifow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itnik zwyczajn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08160" y="4140360"/>
            <a:ext cx="38322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/>
  <dcterms:modified xsi:type="dcterms:W3CDTF">2010-05-18T17:25:08Z</dcterms:modified>
  <cp:revision>15</cp:revision>
  <dc:subject/>
  <dc:title/>
</cp:coreProperties>
</file>